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C1F-0A65-4EFD-98B4-858DE15C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6567-8EC6-4561-AB65-035A47DD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BE4C16-B1E3-4334-88BB-C6396DE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E098D3-52F0-490C-B72C-3B96F47B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8E765-DEA9-4384-8F81-FFEE727A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C837A9-DCC6-4BC8-89E6-587E49D63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C5551-E4F9-4DE1-BB71-CE6EF88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98BEF-B22C-4320-8CE1-209107FF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0D869-583A-448D-A85E-8BDB428D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00552-6313-41E7-8E94-8CE8FEC43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5C34A4-6398-4A3E-B4A4-94773E35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657C6-101B-4C8B-9B8D-05E60F82F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D6D6-0310-4220-8519-862A5032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4256C4-F661-4F0B-9A84-09D3E304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4F71D0-79A0-4369-86ED-C71E0DAE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1CEFB2-65B4-4194-8296-9E6FD553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79CFA-5CD1-4DB0-8489-1EC7867E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F151A3-F899-4A36-9E89-8DC24412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C375C-DB43-4683-BBF2-9EAEF27A3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7A9446-996E-4A74-A44E-96938A98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A1DED-E680-4F17-A762-5E9AD5F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B2BC1-9EBA-48E6-834F-19F5AC4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FB3A0-0F6E-4183-AF24-55B5A0F0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F93F-0217-4228-837A-6C4142BCD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6154D-1427-4C8C-ACC4-F6D32FD58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35364-3631-46BE-9663-C49418E9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279FDC-431E-4156-A4CD-F1A1349E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3D67CC-0AF3-4DDF-BC21-26825E1F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1594D-93A2-4FFC-BBD3-5DE103F3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A0582-C355-4DE5-9446-CB8CCEBDD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0FDBE3-47D9-4B8E-A0D4-F3E92711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927E23-E0D1-43E4-8F26-FFEE08DE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BD736-D0CF-48CB-A344-E9C450225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995A2-6BBA-4BF1-A74F-9F9F944F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9B49-A60A-4F56-85A7-528949589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730A-45EF-4238-AC04-41A63972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FC9C3-3AEC-4D64-8A87-278E38DD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DF6F59-BD91-4010-8976-01F0AEA32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63F09E-223F-4FCD-81FA-3E09F09A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C594B1-FDED-492E-888A-F381F023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D37D1-4C4B-454D-BB6A-DDB772F04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DD023-3BBB-4C1C-BC5F-28FE56557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813B7D-0FF4-4AA4-882F-935CD9E40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27156-F998-4515-9FD7-7D327BB3F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F646A6-F0C8-42CF-B47D-AFC4B765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E7451-C485-4F97-8D11-FF7D93A0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AA3997-C55D-4051-94D6-136F844C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652452-2A31-4D5F-A4DF-7A3B501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67205A-9AF1-489E-9271-021F921D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57EE31-A9DC-4514-8DC3-68EAFB048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0569F8-DF95-47A6-809B-8E0F4702D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B95E40-4C2E-460B-A564-D31C7F8A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1086D5-7488-4B31-837E-CA77312F5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9A24B-EC12-4AF8-BD1F-A50F6FECD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B6415-1711-48D1-A32F-7F7EC2C7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7C2F10-B2E8-47A9-BC7B-5FBC20AE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4C17-A8CB-470A-AE35-31371511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D6633-1785-43CF-94C7-DADADC23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454998-4337-449F-ABB5-A0B54682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06E419-9BEC-4362-88E1-3E68784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B1B0F-F3ED-4E53-A205-5A5E16E2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FB2D4-2355-48B7-8842-0AE55122D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B6F6C-F68E-420E-A940-66F6F4206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7C3509-6D4A-40BE-B6B6-215F8C21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5E6BF0-3E86-4A03-9CC2-7BE80D77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4B5BFA-5CBB-4060-BCFB-309BFFB8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6B5C36-9DDF-46C1-8A55-7B6FFD4FF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8E12-37DB-44F6-8F71-41176894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590927-56DF-4247-B568-946B20A7E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60E1B6-ABDE-4436-AB28-1FC60024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EA1CA-F714-4C50-BF75-BA77CC8DF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73F4D5-4483-426B-B1B6-CC6B70F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383DE0-DFEC-4104-A1D6-DC2C01557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2B3947-CD89-4DE7-8632-B0E39E95B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8C4C42-91A1-4F91-BB44-53327823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082033-9AB0-48B4-8696-67BB542F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388AD2-F237-4DCE-8353-F3A509514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5EFC1C1-EF31-45D8-B467-522517D2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A998-78D5-4CE6-9D29-F6EB8F20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46DE0-DFF1-4A2C-9A6E-E552CDB82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854B0E-90FB-4693-ADA8-0B23F276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0567C-7A2D-49C9-8D0F-F62C5634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C0DB5A-40B9-4117-A223-53CC1B0DE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05BF57-7E57-459C-AFCD-C01BBB4B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AA25E4-1667-4FFD-A022-76AA09E3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300C84-488B-4872-95C6-7BF99BEB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4355C8-6328-488C-87D5-9E9557C2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F6C19B-A835-48C8-AA6A-C031EA2E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F4A727-D985-469D-847C-4599D86E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479C-56F0-4E88-AFDF-714E7BCC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D6869-E6A0-4BAB-87FB-71B5BA83F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F5ED24-C886-4502-8805-A2CF21188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7B19C3-AD7D-449E-9BAD-CB45EF90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EE1CAC-1792-41B3-937A-01780519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988AAB-1D11-4B5D-ACA3-8929F06C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9F7068-0226-4DA7-80B5-B07D34E8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AF3125-3DC5-43A3-9CB7-D8081CEC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658714-BFB5-42ED-9DFE-E2FE151D4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AE7773-1707-4655-8F1A-3DD247AB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E24B8C-A966-4B62-A8B5-E3246B3D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CDA2-C8A7-450E-B16E-59F9D5CE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E0EC8C-0726-45BA-AB00-0735EAA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BE91BB-B4D3-453C-9D84-9AAAB0431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CC9156-4A96-43A2-B8B0-2A3B047C8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F2805A-E3BB-46A4-9F9B-005E6E1B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0DD343-2985-4707-AD14-E3AF8F17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776E5C-35B3-4F98-8424-17E8D6D7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FCE5FF-4032-4B42-A5CD-251E3CA1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3A6E81-2A86-416A-BEA1-C02E5EF7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E5A883-544D-4B69-807B-7CC9983FE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2F87F8-7087-49C6-91BA-9891B8F4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A4EC-658D-468D-BACD-A091300B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2CB2-5E92-40A7-8378-E88BA2FF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39E871-9223-4A98-82F9-D1EA81FB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E7BC2E-5BF6-47F4-8B6B-A8FDE5643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7CF75F-1BBF-4BEF-9AE4-23DF0AE4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BEB3C-C143-4AB0-84B0-A09DAEC8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BA5F4B-F0DB-4E81-9A49-D215FF37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180FAF-B52B-452F-B63F-ACF92182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3AEF45-10DC-4248-8006-8AE51C65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74E918-FE78-4160-815D-2351E444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07956D-014F-4601-98AB-27574105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019827-8DC3-4BE2-8E09-1B62544A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596-8C3E-4315-9737-5331EFD3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30145D-2EC8-4728-B1DE-2E198D5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BBB487-ACDF-433A-AB0C-5C1F3C815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53E0E-15F7-40CA-9A3B-9EACD7F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33BD83-F897-4262-AC53-ECCDE0AA7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33F8AE-E4A1-453C-965F-705A18B4F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16AB1-7C79-451F-AA59-D1E7BAADC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C0968-3DF7-4FCD-B53F-28A5D9E9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C56C87-C7F5-4610-8BC2-90FA9251E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892419-3D74-4D98-9402-1F750E08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A1B9C35-EDE3-42D7-B0D4-35B2582E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605F4-A5CA-4D56-8B76-ECF71D14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71A093-1E5E-4A09-8806-91E99F15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38C747-4648-4615-92F3-8F9A04FF1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E93059-7C60-48DB-8EC6-BEF409260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C3C5D-D7C1-4BF5-BD6E-87C5884C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F785F-F754-439A-923F-B43714640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5F05E8-055F-41D2-9BBF-AAD8892E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F72548-30D5-4EB1-A86B-8E614546D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E04DF7-9806-41B8-9443-A94E294CA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BD4109-E663-4C63-ACED-9BA73DBCA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82AC19-282A-40B4-8C57-E4A7075A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3C9B6-8C21-4CF0-8816-7FDC12BD7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7E0C8D-8F8B-44BA-BE0C-4D3AF725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1FD8B6-64C9-4FAB-9E02-A23DBEF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FD434-8C54-4BC9-8269-DE5E5439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DFE5BD-DD6E-4CDC-8287-B22E0D92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5D0BD4-2883-40CC-89D5-53E704C2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1793F3-209F-4043-9F7B-25CA2E8E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D0A9B3-9845-4762-87C7-663D24C5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E150DB-26CE-4FAF-B6D9-2A9CEEB0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A5BF86-816F-4408-B1E7-998D7F21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641BF-AB43-4AA6-B728-1CB6F790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5E6D-AECE-40C2-9E50-A78F7D9C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4F35E6-18D2-4DEB-BE42-6F4352DE3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B83F7-3C24-4C33-A922-8481C4E1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E1B7C4-F003-4703-BC31-CD944FB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8EC1F2-7BF4-410C-B3D7-051B206C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BF3A08-9C54-4135-8B78-49F8240A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551093-A21F-41B8-B1B3-919529CFF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CE216-AB24-4FEE-80BF-C66FAB58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30FAFA-5200-4E81-9310-C755B5C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B955908-7026-4EB6-9EE8-437EABB1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2EBB79C-719F-4B10-AB63-BB23BDC1A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36FBA-0EEF-4081-B9E5-C68763B2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3AEFA3-F097-4E61-9A60-7B0E97483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4C878F-A10D-41D1-A9A4-79C3CA00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B8A99C-7683-47FB-AE21-D0D9FF6E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C82CF1-DB4C-4180-8833-5EB765DC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47CFEE-98F0-4093-8ABF-67429E10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742947-3482-49AD-8786-2CDD0A007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5E0C4E-99CC-4D1C-A41C-CF282049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30D0A7-5FB1-47EF-A894-4653341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8F0DA9-9F3D-42C8-821E-812CA91B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1954C4-2F0C-4BA7-83E1-3F058357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C016-B38D-42D7-8777-45A63549C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561B0F-6EC0-4723-A9BE-05FAB10F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708F2C-FDEC-43FE-9CD5-53B2AA29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B329AE-403C-4120-A0FF-9E76AB3E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5115EE2-1561-4960-BACF-B8DFB18C4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C1501-804E-4CA4-A47A-6661D9AAF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602B17-9EB9-44E1-A124-8433B5EAC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B56517-B8C7-4819-8BF5-61C2689E9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32748F-A6F1-4A20-99B9-4A3B1E16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18C8A4-2A05-4D6C-8817-F4925EB0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C6E0C9-3607-4807-8668-A8A514B0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5F7DB-9AC1-4088-B7E6-500B236F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D201D4-A053-44CA-99F2-2FC250AA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836CC2C-6D5E-455D-A753-C19BDDC4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1199E70-198D-479D-B293-F003724AC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1A7BB2-EC61-4451-ABAB-A29DFA1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E04FE5-E469-4D06-AC81-F7A0B64F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C72A4EF-56F2-4A9E-91D9-FAF97FE28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87D78A9-74B0-4B75-99FC-8E079AD8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48595-4061-411B-8186-8452F2B5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12366-6A8A-41F2-94B0-DF0D72CE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C4B-DA79-499C-ACA5-35D19B37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AC5BE-E738-4459-93A5-772818FD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128A9-B53A-4F7B-8096-53EFF821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1E3C8-12C1-4D06-B9F8-01C308F2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D64F90-FA10-4555-A4D8-74A48E4B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F3361-15DF-4D6C-860E-2D4F1C1B7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72BB6-201F-430E-9BEE-66FD8862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B4CBB-CCFB-4A14-869E-3A3280C57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9E355-1C86-4CD6-B306-5D6915788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80175-B37A-4CCA-BC85-DA4CB7C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43C3D-95D4-45FC-A8FA-E707446C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DDD8-F322-40D0-B894-94066A45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4D3D-B378-479B-B4A6-3A9E783F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A0C1C-F978-4E63-B58F-C752020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A7600-1DE7-428A-852B-02AEA8F3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B8FE-7EC0-45A8-986D-425A5AA0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87A0-13DE-4924-A491-A578AD1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C4A6-1B6D-4AF6-B0D9-7BDDFCC9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16428-418B-44E4-A9AD-9E425E62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48B5D-489F-483F-905C-343D7C38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9004A-B0F9-4F25-BFE6-D71E8D080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9D6038-6EBC-4C2E-9A5E-F9DD32A4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96F8-CB79-431F-9EB2-6A4151B27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E518A-28C4-41DA-9FAD-23D2D769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4933A-4EE4-4468-8F48-ED460BEF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36D4E-31C1-48F4-B390-E25424B6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5512B-FC37-46EB-8E40-A132E67A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614F-A152-4CA1-AF40-52F4A5E5E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AA678-893C-49B7-A740-9146B7F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C9EBA-6F60-41A7-A216-FC41455E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8B2C6-16E2-4392-AB47-4557EBB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4FD26-0E61-451E-AB21-91F3A3120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5F831-2FD0-4770-8F48-1F1241BE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442-D5D9-46B3-B462-9E2F4BF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7CB06-3038-4F8B-BACF-AE906A289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76804-005A-4230-A47C-EBFAA2FA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DF0DCC-3747-45BC-B345-5B5EDBD0C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266A8-5293-4C06-A3C9-6E1BAF71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7C980-ACE3-4A5B-9DA4-FC5FC3FBC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4296B-14C8-4F7F-8C4F-CC0094D5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584E7E-38A5-460A-A66F-6871C485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FB170-EA63-4ED2-BA36-04872994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410CD-60ED-49B6-82E1-7F0EC1BE9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33AE0-7180-491A-BFAE-03E957389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C8E-1F44-45CC-A1B3-83F7BE8D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D4F93-AE15-44BA-AF27-573A26C3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D385F-8E31-4314-B888-76E9A81F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4C94E-5630-4609-A3E0-15B5B141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B2CFE-3999-45A1-8935-3BCF023F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53532A-F386-40D5-B8A3-4DFCAD3D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6C6B7C-9BB4-42EF-8AF6-702DAB2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1A91C-1D67-42E2-92CD-676F5E09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EC42D-2936-41B9-8B65-855DA274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2469E-58AB-4DF0-8A80-BC5B5725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C2B86-A126-41E1-A6FF-BA9056BAD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29B-5934-4089-9F19-AD2DF235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5B75-0E60-4D43-922C-A1C9F2FC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B183-FD7D-42C7-8474-A9C59C62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DBA5B3-74F9-4D1F-9915-F8735E97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C0D7A-62AF-430A-B38F-83B94CA5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B17DB-E543-40B1-A7F3-1DE035C1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47554-0EB5-41F1-871F-78F6CA2B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DCA88-4EA9-4EEF-8833-B8DDAFEF9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733417-9AD4-4840-96F7-7944B6BD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EC9822-5AA6-48CB-BFCB-DEF729A8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7B94-2DD6-4E2D-B805-1EAF7481B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C2CB-A67C-4B10-B7B6-5934D6F0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FB69D-C820-4348-B41D-66E00A32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80EC1-5EE6-4C67-93EB-B71CDDAA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CCB44-CAE7-43B2-9DBB-93C9AC7C0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BEAD51-0077-44A5-BC81-0CC9101F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4683C6-F118-42E0-AA23-6F5183F10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55CD7-558F-4EB3-AF3A-CABF8A9DE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2365D7-8866-4600-8FBF-3BA2EFF27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FE62AB-5891-417F-B1C7-B561254F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5C28A9-F036-42F3-B7E0-7FBDC159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624F-7575-4D9A-A11E-886D3C8C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1DFE2-6D57-4860-8813-F022EB62E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3E8-DCF0-419E-8775-F22EB3C44D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DBE8-A903-4C23-B464-B921195ABCF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22A56-0C95-41A5-B120-E5461BB569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341E-388B-4764-9235-DE169F3088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3DD8-09CD-4E2B-89B8-50C161CEEB2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6AB9-D24C-4A7F-A6C5-1D67406D75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BBD2E-D123-4347-8B89-BB9DD11708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765A-A451-41D7-A17A-5956A62F64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004D-86FC-4EDC-BC49-A5545CCFE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6778-132B-4546-BB05-43395E3F39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143A-595A-45F4-A2F1-27D5DFA79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99F1A-EA8A-444E-807E-759F3BE75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C76B-1E06-46F8-91F9-CEAFD48441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4C23-3619-4CF2-99D6-8DECF6D43A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5BBC-257D-4269-9602-EDFD7FD1EC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AC57-12FF-4C24-AD32-A0F80368B6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CA2DF-BD6B-47D6-A1B4-284A234CCE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0242-D958-4C31-BAC8-0DF9EC80C4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02EBC-C1E1-426A-9450-0F65BF5692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128A-44F5-4730-8EB2-7EE20034F4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22FA-5B4E-42F1-B446-74CDFA86736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CA2F8-8ED4-4264-B000-6E70F30F65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FB83-502C-48EC-9B2A-AD849A046F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2779-F172-41F9-8C36-CA9F6583ED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1ED0D-C73D-40DC-B6C3-246AFE1A38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800EC-41AB-4295-946B-ADB7EC131F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1755-4DFA-487F-9411-3034094330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7C66-D8FD-47AD-925B-3CC5F2D2EF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3EADB-D4D1-4EAD-9980-DA74F07AE2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F797-424F-4DF9-90B8-1CAF0DF98E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7374-0C1C-4554-9F5C-16CD762F3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E3F4-A341-440E-AF0C-19BCC3A5AD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11E3-BB31-411C-948E-FA408BC58FA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0AB7-D1C1-48AE-9A0F-037CFE7463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119D-D718-4AC1-8EB4-B19F9E5FD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3210-9ECC-4FAF-96B9-76B0490EBD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688-C301-4C8F-A273-B89DAA1B84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E868-2FCE-4129-9711-120F59D22A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EBDF7-2564-4AC1-A392-17CDB12248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04DF-6896-451B-A9EF-6D9190C748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6BA5C-E30E-4924-B206-2AEF3352A9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1238400" y="2357280"/>
            <a:ext cx="6667200" cy="21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581040" y="828720"/>
            <a:ext cx="7981920" cy="52005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684360" y="8794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611280" y="1484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611280" y="213372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684360" y="270828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684360" y="3284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611280" y="3860640"/>
            <a:ext cx="792000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611280" y="4508640"/>
            <a:ext cx="792000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539640" y="5084640"/>
            <a:ext cx="792000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76040" y="909720"/>
            <a:ext cx="8791920" cy="503856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1979640" y="4076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508720" y="40338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1979640" y="551664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6156360" y="5445000"/>
            <a:ext cx="1295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466560" y="1023840"/>
            <a:ext cx="8210880" cy="481032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692360" y="1773360"/>
            <a:ext cx="1439640" cy="44748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4067280" y="249228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2484360" y="3917880"/>
            <a:ext cx="5327640" cy="44784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164360" y="465300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476280" y="2757600"/>
            <a:ext cx="8191440" cy="134280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5003640" y="2852640"/>
            <a:ext cx="165600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1763640" y="357336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133200" y="190440"/>
            <a:ext cx="8877600" cy="647712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7956720" y="112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7956720" y="25653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7956720" y="400536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956720" y="472428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956720" y="6178680"/>
            <a:ext cx="502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352440" y="958680"/>
            <a:ext cx="8439120" cy="55915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1332000" y="269388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3"/>
          <a:stretch/>
        </p:blipFill>
        <p:spPr>
          <a:xfrm>
            <a:off x="5003640" y="2679840"/>
            <a:ext cx="2953080" cy="4474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4"/>
          <a:stretch/>
        </p:blipFill>
        <p:spPr>
          <a:xfrm>
            <a:off x="5076720" y="3357720"/>
            <a:ext cx="2952720" cy="44748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5"/>
          <a:stretch/>
        </p:blipFill>
        <p:spPr>
          <a:xfrm>
            <a:off x="1185840" y="517032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6"/>
          <a:stretch/>
        </p:blipFill>
        <p:spPr>
          <a:xfrm>
            <a:off x="1258920" y="5848200"/>
            <a:ext cx="295272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7"/>
          <a:stretch/>
        </p:blipFill>
        <p:spPr>
          <a:xfrm>
            <a:off x="5146560" y="5199120"/>
            <a:ext cx="3673440" cy="4474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8"/>
          <a:stretch/>
        </p:blipFill>
        <p:spPr>
          <a:xfrm>
            <a:off x="5219640" y="5877000"/>
            <a:ext cx="36734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图片 1" descr=""/>
          <p:cNvPicPr/>
          <p:nvPr/>
        </p:nvPicPr>
        <p:blipFill>
          <a:blip r:embed="rId1"/>
          <a:stretch/>
        </p:blipFill>
        <p:spPr>
          <a:xfrm>
            <a:off x="228600" y="1166760"/>
            <a:ext cx="8686800" cy="45244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2"/>
          <a:stretch/>
        </p:blipFill>
        <p:spPr>
          <a:xfrm>
            <a:off x="1042920" y="31971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554508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4"/>
          <a:stretch/>
        </p:blipFill>
        <p:spPr>
          <a:xfrm>
            <a:off x="1187280" y="4437000"/>
            <a:ext cx="554544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5"/>
          <a:stretch/>
        </p:blipFill>
        <p:spPr>
          <a:xfrm>
            <a:off x="684360" y="5027760"/>
            <a:ext cx="5545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76040" y="33480"/>
            <a:ext cx="8791920" cy="67910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900000" y="331308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900000" y="3860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971640" y="4508640"/>
            <a:ext cx="482436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900000" y="5084640"/>
            <a:ext cx="48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826920" y="5661000"/>
            <a:ext cx="7993080" cy="11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5120" y="1023840"/>
            <a:ext cx="875376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10:18:08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